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DF4-E35C-4781-923C-6D85ACEC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E76-0C06-4BA3-A1DA-768E7AF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3E2-D05B-405E-B48F-09367C81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FE1-04B2-43BB-ABA4-70E617C6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CA7-1926-48CE-B789-50FE0689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381-21D3-4A78-B3A2-13011131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E6E-34C3-4E09-8DC8-407476F4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B51-9100-4020-B823-56E7EF9C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473-B0EA-4C07-BB4B-D6244E9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AEC-BE96-4130-85E2-2E3C4C5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015-0048-45A9-A878-5752840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990-7283-47F9-BE06-83E77C1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ACB-7D45-4F99-A2C8-CD9600A5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ior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issa Est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7656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619440" cy="543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81480" y="685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nd Col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95440" y="2381400"/>
            <a:ext cx="4353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oooooooooooom last semes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3642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90920" y="11430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13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witc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3401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76920" y="1752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181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403848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09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86160" cy="325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81360" y="3395520"/>
            <a:ext cx="4562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3049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ee Choice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1447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500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448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70320" y="1600200"/>
            <a:ext cx="2992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 with 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70080" y="1600200"/>
            <a:ext cx="3002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30:34Z</dcterms:created>
  <dc:creator>bal_mdestrada</dc:creator>
  <dc:description/>
  <dc:language>en-US</dc:language>
  <cp:lastModifiedBy>C</cp:lastModifiedBy>
  <dcterms:modified xsi:type="dcterms:W3CDTF">2009-05-22T20:11:44Z</dcterms:modified>
  <cp:revision>13</cp:revision>
  <dc:subject/>
  <dc:title>Marissaaaah!</dc:title>
</cp:coreProperties>
</file>